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963-DB22-4CFA-9442-244FEBF9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039-A202-4421-A068-8BB1BABB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5D6-8719-4D87-9410-C6863481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F57-1A9E-4E99-A99E-7C89E8DB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0BC9-33BB-4D27-9EE8-CCFF04BF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5261-D5A6-4026-B485-7808AF5B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E829-81BF-4A8C-B86A-50579B62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C400-5864-4C0F-B73B-ADE4E4BE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8DAA-BF5E-40A4-AEA7-BD7C193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F23E-7946-40AD-9D6D-7F6FF27C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6EBA-71D1-4F07-8AF4-69A56CD1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781-32D8-44BC-A681-6275F0B6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478A-EA13-4384-A623-EE6E923C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19DC-662C-4F57-8B67-832B2C44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12F9-6255-496F-BB15-EAD033C7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8C9F-BD9B-45C0-A125-9B804A43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7C70-1877-4314-816B-5FD1212B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2EA-AF51-4406-BF97-5454ACED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39F-ADFE-4281-A384-7B2DF494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3FA-209D-4BD9-A975-157DD9E3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34F-4F84-47FB-8D75-445AE084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70D-F902-4A90-B92A-4C2B7104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DC9-1CDA-4ECB-89E4-AE070DB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25A-CA8F-4BAF-91D0-19816C4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CE9E-0857-43D0-865A-0446C0D44713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EAF8-5D5C-4727-BFF0-7867DA5123DA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KOREAN LANGU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LVEL 1 (NOVICE)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General Course Information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Instructor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Transitional P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400" spc="-1" strike="noStrike">
              <a:solidFill>
                <a:srgbClr val="000000"/>
              </a:solidFill>
              <a:latin typeface="Eurostile"/>
              <a:ea typeface="굴림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Your Topic Goes Here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Elements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www.animationfactory.co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92" name="Picture 224" descr="Z:\newtek\_backgrounds_1.02\Tim\powerpoint templates\101-120\cloud_skipper\cloud_skipper_prt.jpg"/>
          <p:cNvPicPr/>
          <p:nvPr/>
        </p:nvPicPr>
        <p:blipFill>
          <a:blip r:embed="rId1"/>
          <a:stretch/>
        </p:blipFill>
        <p:spPr>
          <a:xfrm>
            <a:off x="6983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5" descr="Z:\newtek\_backgrounds_1.02\Tim\powerpoint templates\101-120\cloud_skipper\cloud_skipper_qx.jpg"/>
          <p:cNvPicPr/>
          <p:nvPr/>
        </p:nvPicPr>
        <p:blipFill>
          <a:blip r:embed="rId2"/>
          <a:stretch/>
        </p:blipFill>
        <p:spPr>
          <a:xfrm>
            <a:off x="152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6" descr="Z:\newtek\_backgrounds_1.02\Tim\powerpoint templates\101-120\cloud_skipper\cloud_skipper_sld.jpg"/>
          <p:cNvPicPr/>
          <p:nvPr/>
        </p:nvPicPr>
        <p:blipFill>
          <a:blip r:embed="rId3"/>
          <a:stretch/>
        </p:blipFill>
        <p:spPr>
          <a:xfrm>
            <a:off x="2428920" y="521820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7" descr="Z:\newtek\_backgrounds_1.02\Tim\powerpoint templates\101-120\cloud_skipper\cloud_skipper_trs.jpg"/>
          <p:cNvPicPr/>
          <p:nvPr/>
        </p:nvPicPr>
        <p:blipFill>
          <a:blip r:embed="rId4"/>
          <a:stretch/>
        </p:blipFill>
        <p:spPr>
          <a:xfrm>
            <a:off x="4705200" y="5218200"/>
            <a:ext cx="2009880" cy="150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y</cp:lastModifiedBy>
  <dcterms:modified xsi:type="dcterms:W3CDTF">2012-07-26T08:41:49Z</dcterms:modified>
  <cp:revision>1</cp:revision>
  <dc:subject/>
  <dc:title>KOREAN LANGUAGE</dc:title>
</cp:coreProperties>
</file>